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CEB7-F5B2-459A-B86F-E2C66C36C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A481-312A-45B2-8110-4B4DAC1EA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8057-1363-4F76-87CF-786A8371D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CBD4-A220-476D-AE8B-EF2214858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2E006-B8E2-4533-901C-9E13690D5A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E1BD-D85E-449E-AB29-D5286DCF96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31F1-C21B-4FE1-8EF7-EE0B2E5B76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681D-CCD2-445E-AE1F-9717581A5F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EB628-CD36-4FB3-B674-AC107D62E3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AB9DB-E669-4C5C-B1AF-C89C762A9A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A381A-F83B-445D-9654-426F4854B8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C686-3796-4182-8204-3200DA260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86153-8187-4A18-AE6E-D23EDE34C6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8316-46D9-4CA5-AD46-CB4B32E93B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15BE-3C74-488E-B3C6-87FF944BD3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8725-F43A-4A01-90A0-CD8661FD7A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7C4F-17A1-4E80-B1A9-B376FE1E5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A7A4-5796-432C-BAAB-2A568DA02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F261-4EB6-43A9-8CD0-54FFAA651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9216-58BA-4FEF-9D36-AC287BA35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1905-463F-4DD4-BA13-DA8974204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F1FD-8F35-448F-B532-324C60BDE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363B-F1D4-418D-8232-B0FF5F3B5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4483-9966-4739-95F0-A6A29B3B3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7C6F-2EC7-4FCB-AD69-2E5D2050F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072F-7CB9-4D7B-B46E-B0BDAA2F8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1 – Uvod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447920"/>
            <a:ext cx="7696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Motiv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novni pojmo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emeljni princi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reg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E1B7-B0A3-45EE-8C98-C6E57D947C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038760" cy="532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384804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353760" y="5877000"/>
            <a:ext cx="24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mperativno vs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2058-986B-47AE-B0E2-C29500DE77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ncip je da se podaci i programski kod vezani za jedan entitet čuvaju u okviru jedne programske jedinice (kl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jčešće, ovaj princip realizuje su putem koncepta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stiže se bolja sprega programskog koda sa podaci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akše je kontrolisati više manjih jedi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Znatno unapređenje u odnosu na strukturirano programiranje gdje postoje dvije velike odvojene cjeline, tj. programski kod i poda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daci vezani za jedan entitet dostupni su samo funkcijama i procedurama vezanim za taj entit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ojednostavljuje se traženje greša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nalogija sa preduzeć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Sastoji se iz više odvojenih departmana i svako ima svoja zaduž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pr. računovodstvo vodi računa o zaradama i samo su njima dostupni ti poda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aži princip “crne kutij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 ulazi se u detalje implementacije klase koja modelira neki entit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Sakrivanje slože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326E-C637-412E-96D3-4B8D6735D7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13400" y="63086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O  paradi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769440" cy="591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E302-A51D-4EBB-859E-1C059A9C22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O pristup stvara osnove za modelovanje rješen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očavaju se entiteti, njihova stanja i a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stoje jezici za modelovanje putem kojih je ove opise moguće i formalno zapisati i sačuvati (UM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Rješenje se potom implementira u nekom konkretnom OO programskom jeziku koristeći koncepte OO programiran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eba razlikovati OO modelovanje (projektovanje) i OO program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O modelovanje je pristup koji se bavi kreiranjem modela realnog svije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O programiranje je tehnika za realizaciju kreiranog mode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6036-7C7B-460D-BA60-9136A57AE3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Temeljni principi – Apstraktni tip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pstraktni tipovi poda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trakcij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prepoznavanj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nih svojstava skupova sli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h objek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sivanje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m tipom pod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red ugrađenih tipove podataka, u OO jezicima moguće je definisati i sopstvene tipove podata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Oni se ravnopravno koriste sa ugrađenim tipovi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guće je kreirati proizvoljan broj promjenjivih za taj novi t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Instanciran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guće je definisati i operacije nad novim tip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ovi tip se uglavnom realizuje putem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ovi tipovi podataka odgovaraju pojmovima iz realnog svijeta, tj. domena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Time se postiže bolja razumljivost programskog koda i olakšava programiran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pr. novi tipovi mogu da prestavljaju studente, zgrade, geometrijske objekte i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5970-F0EF-4F23-9686-18F225F315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Temeljni principi – Enkapsul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nkapsula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mplementacija nekog tipa može (treba) biti skrivena od ostatka sist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ime se smanjuje mogućnost da dođe do greš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risnicima je jasno definisano šta je moguće raditi sa nekim tip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ko se sprovodi određena implementacija je skriveno od njeg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nalogija sa kućnim aparat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risnik vidi samo skup dugmati putem kojih koiste apar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Elektronika i mehanika koja vrši operacije su skriveni od korisn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j princip se ostvaruje tako što pojedini dijelovi koda (podaci, funkcije, procedure) mogu označiti kao javni ili privat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2F47-A897-4403-8697-B9BE9F84CC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712680" y="6308640"/>
            <a:ext cx="19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nkapsul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5329440" cy="417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AB6D-4041-461E-A0BE-3905BC2C2F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Temeljni principi –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sljeđiv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jerovatno i najvažniji princip OO programira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skupu sličnih entiteta mogu se uočiti podskupovi koji dijele neke zajedničke osobine koje razlikuju od ostalih objek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u skupu entiteta Vozilo mogu se uočiti podskupovi Automobil i Kam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ni dijele zajedničke osobine jer pripadaju skupu entiteta Voz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red toga, imaju svoje specifične oso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a svaki kamion mora biti poznata maksimalna dozvoljena težina tere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8F0D-58BE-4F12-BA7D-DA6BBAA6D4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Temeljni principi –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sljeđ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 sličan način klasa A može se izvesti iz kla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Ona zadržava sve funkcionalnosti osnovne klase, tako da se te funkcionalnosti ne moraju ponovo implementirati u izvedenoj kla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Moguće je dodavati nove funkcionalnosti, kao i mijenjati postojeć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Ovime se postiže visok stepen ponovne upotrebe programskog k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Jednom kreirana klasa može biti proslijeđena drugim programerima da je kori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Ako treba unijeti izmjenu programer kreira novu klasu koja se izvodi iz postojeće klase i modifikuje samo samo određene funkcionalnos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rogramski kod osnovne klase ostaje neizmijenj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rogramer čak ne mora da zna ni jedan detalj implementacije iz osnovne k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rogramiranje GUI-a kod većine OO jezika je zasnovana na ovom princip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4751-70BD-47F1-B26E-EE4E0ABD7D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991280" cy="5437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81400" y="6165720"/>
            <a:ext cx="19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Nasljeđiv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2362-DBE5-4CDD-B628-D97E0A5100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sa istorijatom struktiranog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O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ira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sa osnovnim pojmovima i principima vezanim za OO programira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gled koncepata koji će biti izučavani u ostatku kur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0EAC-CEED-460D-81BE-5FE87986EF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Temeljni principi – Preklapanje operatora i polimorfiza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klapanje operato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red mogućnosti uvođenja novih tipova moguće je definisati i značenje operatora za taj novi ti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ako je definisan novi tip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koji odgovara  kompleksnim brojevima, moguće je i definisati značenje operatora + nad tim novim tip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perator + u različitim kontekstima ima drugačiji smisa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limorfiz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j pojam vezan je nasljeđivan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ka u klasi A postoji funkcij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guće je izvesti klase B i C iz klase A i u tim klasama napisati novu (specifičnu) implementaciju z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Funkcij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ma više oblik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ji oblik će biti pozvan zavisi od tipa objek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3F42-F8D9-40D1-9B93-0F275453C4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gled – Klase i objekti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stavlj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trakcij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jedn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h atributa i zajedn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g ponašanja jednog skupa srodnih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sadr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atke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e (atribut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definišu sta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e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e (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metode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šu ponašanj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a klasa ima implementaciju i interfe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lementaciju klase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ni podaci članovi 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je funk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fejs klase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ni podaci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 (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ne preporučuje 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ije funk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ojave (instance) klase nazivaju se objekt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6BAC-E39E-46B5-962F-31B959AC84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7488360" cy="6324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993040" y="6381720"/>
            <a:ext cx="20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Klasa i objek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81F5-B86A-43E7-A07C-9FBCDB9CDF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gled – Klase i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Uce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cenik(int BrojIndeksa, char* i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~Ucenik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tamp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rojIndek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ime[15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C8B8-FFAA-4D41-8E41-1785486337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gled – Klase i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cenik::Ucenik(int brojIndeksa, char* 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-&gt;brojIndeksa = brojIndek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cpy(this-&gt;ime, i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cenik::~Uceni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Ucenik::Stamp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Broj indeksa " &lt;&lt; this-&gt;brojIndeksa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Ime " &lt;&lt; ime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A9BB-8000-4ABE-A125-6C079455CC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lan ra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nosti u poslovanju i napredak računarske tehnike ima za posljedicu porast pritiska na softversku industri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ada naraslim zahtjevima nije moguće odgovoriti dolazi do tzv. “softverske kriz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rize se prevazilaze uvođenjem novih alata i tehni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j proces je ciklič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zvoj softvera prati ciklično smjenjivanje povećanja pritiska na softversku industriju usljed rasta složenosti poslovanja i smanjena pritisaka usljed uvođenja novih alata i tehnik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.S. Frank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827B-43AD-46BA-B5FB-32217C90B3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a takva kriza javila se šestdesetih god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to vrijeme nije postojala tehnologija razvoja programa, pa se za takav pristup koristi naziv “haotično programiranj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programima se često koristila naredba skoka (goto) pa se takav programski kod nazivao “špageti ko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trukturirano programiranje nastaje kao odgovor na narasle zahtje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vodi se red u programiranje upotrebom strogo definisanih upravljačkih struktura (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t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vezano je sa imperativnom paradigmom programir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DDC1-3792-475D-97FF-65A15E3694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rukturirano programir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groman napredak u odnosu na programiranje putem asembl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gram predstavlja niz instruk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što je rečeno koriste se propisane instru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eći programi koji imaju nekoliko stotina instrukcija postaju nerazumljiv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ši se razbijanje na manje procedure i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Čvrsto je vezano sa metodom sukcesivne dekompozi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oblem se postepeno dekompomponuje i raščlanjuje na manje jedinice (procedure i funkci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32D0-FA99-4AB8-9785-7061CA401A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red brojnih prednosti i postoje i m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ogram je podijeljen na dvije velike cjeline, podaci i k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Za složene programe ovo može biti probl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dovoljno razvijena podrška za uvodjenje novih tipova podataka i proširenje postojeći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dovoljno razvijeni mehanizmi za povezivanje modula koda napisanih od strane različitih timova progra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dostatak mehanizama za ponovnu upotrebu k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ko složenost softvera stalno raste navedeni nedostaci predstavljaju ozbiljno ograničenje u upotrebi strukturiranog programir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O programiranje je dijelom uvedeno kako bi se prevazišli nedostaci tradicionalnog programir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O programiranje ne znači kompletan nestanak strukturiranog programiranja, već su principi strukturiranog programiranja prisutni u OO programskim jezic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7721-8E06-49DF-82AE-2F4A5F5535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424720" cy="3559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83200" y="5084640"/>
            <a:ext cx="28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roceduralna paradi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EE02-EE32-4436-BF73-798EC284FF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a prevazilaženje poteškoća uzrokovanih složenošću često se pribjegava upotrebi mod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apa je primjer modela, kao i maketa z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 se sastoje od elemenata koji opisuju neku fizičku, apstraktnu ili hipotetičku realn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del je pojednostavljenja slika svije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Ta “slika” sadrži samo one detalje koji su od inte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reba mode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e široka i prisutna u mnogim domen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očigledne prednos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še je sprovoditi eksperimente i analizu nad modelima, jer su jednostavniji i njihova izrada košta mnogo manje nego izrada samog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ćava se nivo apstrak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ša komunikacija između članova razvojnog ti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3B7E-905C-431A-970F-F9C635FE76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O pristupu uvodi bitno drugačiji način razmišljanja u programir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O pristupu softver se tretira kao model realnog svi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ijet se sastoji iz entiteta (objekat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Entiteti imaju svoja stanja (atribute) i ponašanja (akcije, procedur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ncepti kao što su klase, metode i nasljeđivanje služe za modelovanje (opisivanje) entite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lasa je glavni koncept koji predstavlja apstrakciju (model) jednog entit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BD7E-7147-42FC-B9AE-9D44582389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2T18:10:47Z</dcterms:modified>
  <cp:revision>581</cp:revision>
  <dc:subject/>
  <dc:title>Chapter 1 – Introduction to Computers and C++ Programming</dc:title>
</cp:coreProperties>
</file>